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7104-8593-4E11-99A9-326A1D5E2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2602-F9F4-4D70-B58A-8DD3828AC1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1060200" y="4351320"/>
            <a:ext cx="47307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056D-774B-41B2-81ED-0633442858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29A7-0766-4FB3-A33C-620F390B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A6A8-83B9-4105-9D57-03E2B2D7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052-DA59-464C-A613-68FC5234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5FC0-82C5-4CE4-9B28-90362445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035C-0D29-485C-BCCD-BA50E5D7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DD8F-82CD-4234-A750-8DFEC7DE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8D33-6C06-4C76-8823-321B2DD4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4A42-ABEC-4D62-BF5C-4B9B1212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8458-38A2-484D-8103-1A2053E9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CBF4-7DFF-4FB8-9EFD-1F64D2FD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DD46-C7B2-4F5D-BD22-0C19B9E7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4AEC-EEC3-4441-B8D9-72CBD5DE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30D3-58AB-48D9-88E6-2E22F1E2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7185-7CE7-41D3-AF24-83C19A42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5F30-AFA0-4A62-AA9A-6CE66260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A52F-7B8B-45BE-904D-60B52629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F51C-AD07-463B-BAFB-C6776F2E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778D-F2EF-4E6F-B626-02696825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1AEF-BBA5-44E3-B937-4317F58B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4C43-FB19-4D3F-877C-16BD9765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FA90-E0B6-466A-B5D5-09A984B5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059C-0C92-45A8-9872-F0B5A7F4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40EF-20BB-45EF-90A3-4F75C07A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2E24-CEF2-43B8-AE41-5ED5999C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34F2-2732-4E03-B4B6-CD85138F4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D243-7BDC-457E-B165-585288AB03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cc00"/>
                </a:solidFill>
                <a:latin typeface="Garamond"/>
              </a:rPr>
              <a:t>Мостови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cc00"/>
                </a:solidFill>
                <a:latin typeface="Garamond"/>
              </a:rPr>
              <a:t>Дефиниција и опште карактеристике мос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cc00"/>
                </a:solidFill>
                <a:latin typeface="Garamond"/>
              </a:rPr>
              <a:t>Делови мост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а</a:t>
            </a:r>
            <a:r>
              <a:rPr b="1" lang="fr-FR" sz="4000" spc="-1" strike="noStrike">
                <a:solidFill>
                  <a:srgbClr val="ffcc00"/>
                </a:solidFill>
                <a:latin typeface="Garamond"/>
              </a:rPr>
              <a:t> и принципи  планирања                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Индикације и контраиндикације за израду мос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Функцијска оптерећења носача мост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Нормално периодонцијум једног здравог зуба м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 да се оптерети са ј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јадним 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ланом исте вели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е оклузалне повр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е као његова без 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етних последица, ако је при том конструкција на обе стране подупрта -</a:t>
            </a: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физиоло</a:t>
            </a:r>
            <a:r>
              <a:rPr b="1" lang="sr-Latn-CS" sz="3200" spc="-1" strike="noStrike">
                <a:solidFill>
                  <a:srgbClr val="33cccc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ко правило двоструког оптере</a:t>
            </a:r>
            <a:r>
              <a:rPr b="1" lang="sr-Latn-CS" sz="3200" spc="-1" strike="noStrike">
                <a:solidFill>
                  <a:srgbClr val="33cccc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ења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. Другим 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ма два зуба нос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 могу да поднесу притисак мастикације за ј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два зуба који недостају, ако су спојени у једну целину. Таква мостна конструкција није суви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 опте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н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 колико 2 зуба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треба да носе 3 изгубљена зуба (3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лана)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рина гризне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 моста мора да се редуцира за 1/3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рине гризне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 изгубљених зуб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зузетак од овог правила се прави код појединих сл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јева горњих фронталних мостова где 2 зуба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носе 4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лана ( 3xx xx3). У б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ој регији израда мостова са 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м распоном од 3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лана на 2 зуба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је контраиндикован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Правило по Антеу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укупна периодонтална повр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а зуба нос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 мора да буде ве</a:t>
            </a:r>
            <a:r>
              <a:rPr b="1" lang="sr-Latn-CS" sz="36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 или једнака укупној периодонталној повр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и изгубљених зуб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Постоје две врсте носача мост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а) примарни и б) секундарн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ff9900"/>
                </a:solidFill>
                <a:latin typeface="Arial"/>
              </a:rPr>
              <a:t>Примарни носачи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 моста су зуби који непосредно ограничавају безуби простор. Они су обавезан саставни део сваког моста. Индикација за мост је првенствено одређена њиховом способношћу да поднесу додатна оптерећењ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Latn-CS" sz="2800" spc="-1" strike="noStrike">
                <a:solidFill>
                  <a:srgbClr val="ff9900"/>
                </a:solidFill>
                <a:latin typeface="Arial"/>
              </a:rPr>
              <a:t>Секундарни носач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моста су зуби непосредно уз примарне носаче. Они су факултативни саставни део моста. Када за то постоји потреба, у конструкцију моста се укључују и секундарни носачи. Тада се разликују примарне и секундарне котве моста. Када су у конструкцију укључени и секундарни носачи, тада примарне и секундарне котве морају бити међусобно спојене ливеном спојницом у блок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3" descr="Untitled-9"/>
          <p:cNvPicPr/>
          <p:nvPr/>
        </p:nvPicPr>
        <p:blipFill>
          <a:blip r:embed="rId1"/>
          <a:stretch/>
        </p:blipFill>
        <p:spPr>
          <a:xfrm>
            <a:off x="0" y="3733920"/>
            <a:ext cx="2470320" cy="3124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Untitled-10"/>
          <p:cNvPicPr/>
          <p:nvPr/>
        </p:nvPicPr>
        <p:blipFill>
          <a:blip r:embed="rId2"/>
          <a:stretch/>
        </p:blipFill>
        <p:spPr>
          <a:xfrm>
            <a:off x="2556000" y="3789360"/>
            <a:ext cx="3330360" cy="2108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Untitled-11"/>
          <p:cNvPicPr/>
          <p:nvPr/>
        </p:nvPicPr>
        <p:blipFill>
          <a:blip r:embed="rId3"/>
          <a:stretch/>
        </p:blipFill>
        <p:spPr>
          <a:xfrm>
            <a:off x="5715000" y="4648320"/>
            <a:ext cx="3429000" cy="2006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Garamond"/>
              </a:rPr>
              <a:t>Вредновање стубних зуба зависи од ви</a:t>
            </a:r>
            <a:r>
              <a:rPr b="1" lang="sr-Latn-CS" sz="3600" spc="-1" strike="noStrike">
                <a:solidFill>
                  <a:srgbClr val="33cccc"/>
                </a:solidFill>
                <a:latin typeface="Garamond"/>
              </a:rPr>
              <a:t>ш</a:t>
            </a:r>
            <a:r>
              <a:rPr b="1" lang="en-US" sz="3600" spc="-1" strike="noStrike">
                <a:solidFill>
                  <a:srgbClr val="33cccc"/>
                </a:solidFill>
                <a:latin typeface="Garamond"/>
              </a:rPr>
              <a:t>е фактора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Биол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ки факто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виталит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врсто фиксиран зуб у вилиц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натомски факто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облик кру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број, облик и распоред корено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опографски факто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где се зуб налази у вилиц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ародонцијум као факт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конституционални тип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старост пацијен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порем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ји артикулацијске равнот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морфол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е проме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Функционални фактор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врста оклузиј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смер 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     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однос зуба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према суседним  зубима и антагонисти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1. Биоло</a:t>
            </a:r>
            <a:r>
              <a:rPr b="1" lang="sr-Latn-CS" sz="3200" spc="-1" strike="noStrike">
                <a:solidFill>
                  <a:srgbClr val="33cccc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ки фактори стубних зуб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Зависе од виталитета зуба-витални зуби могу поднети в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 опте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ње и имати ду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 век трајања. Зуб треба бити 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врст са резистентним периодонцијумом јер у одр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еђ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ним слу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јевима депулпиран зуб добро изл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н је отпорнији од виталних раскл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них нос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. Анатомски фактор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натомски облик, вел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а, број и распоред коренова ут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 на вредновање зуба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. В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корени зуби са дивергентно постављеним кореновима су масивни и имају 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 вредност као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 јер пр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ју 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 отпор вертикалним и хоризонталним мастикаторним силам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рема анатомским обел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јима зуби се физиол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и могу по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ти: 6, 7, 3, 5, 4, 1, 2, 8. Умњаци се увек индивидуално процењују, могу се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к н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 у групи другог молара ако су добро развијени и у групи доњих секут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када коренови нису довољно развијени. Депулпирани зуби су слаба т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а протетске конструкциј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Топографски факто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Подразумевају пол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ј зуба у зубном низу, растојање изм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у зуба нос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, м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усобни пол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ј зуба нос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. 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њаци као грани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ни зуби изм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у фронталног и дисталног подру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ја имају в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нију позицију од секути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. Инклинирани зуби су мање вредни јер се притисак не преноси по оси зуба и неравномерно опте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ују пародонцијум а 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сто захтевају и девитализацију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ојам “мост“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преузет је из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грађевинарства-означава техничку направу која премошћује неку празнину а на крајевима је подупр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У стоматологији п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ојам “мост“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означава зубну протезу која надомешта изгубљене зубе а посебним везама је везана за зубе који ограничавају зубни дефект. Притисак жвакања се при том преноси чисто дентално, преко зуба носача моста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96360" cy="59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Процена распона и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змеђу зуба носача-процењује се индивидуално, интраорално а не само према томе који зуби ограничавају празан простор 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(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8xxxx3-превелики по распону а интраорално ако је умњак померен мезијално са добро развијеном круницом и кореновима простор је смањен и може се урадити мост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)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Пародонцијум као факто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Стање пародонцијума зависи од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-конституционалних фактора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грађе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-старости пацијента-40 го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-времена трајања дефек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-изражености поремећаја артикулацио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равнотеж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-изражености морфолошких пром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(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повећање клиничке круне на рачун корена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640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Важност пародонцијума потиче и од тога шт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се у њему налази велики број рецептора, зат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очуван пародонцијум има очуван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неурорецепторни механизам-проприоцептор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(</a:t>
            </a: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аферентно еферентни путеви</a:t>
            </a: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)</a:t>
            </a: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 што омогућа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неуромускуларну координациј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00ff99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Функционални фактори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-врста оклузије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смер оптереће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Функционалн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о стање зуба одређено ј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односом зуба носача према суседни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зубима и антагонистима. Код доб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оклузије констатује се мањи или већ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степен абразије, добра артикулација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резистентан пародонцијум. Код оклузије с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неправилним оптерећењем констатује с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деструкција пародонталног ткив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cff66"/>
                </a:solidFill>
                <a:latin typeface="Garamond"/>
              </a:rPr>
              <a:t>Зуб који је дуго био ван функције тј. ван оклузије ако поново буде оптерећен као носач моста његов потпорни апарат неће бити у стању да поднесе овај изненадни притисак, потребан је један период реадаптације на нове услове да би се овај зуб активира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cff66"/>
                </a:solidFill>
                <a:latin typeface="Garamond"/>
              </a:rPr>
              <a:t>Тип жвакања утиче као функционални фактор зуба-код масетеричног типа жвакања зуби су отпорнији и познају се по присуству абразије на оклузалним површинама. Код темпоралних типова жвакања зуби су без абразиј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91440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cccc"/>
                </a:solidFill>
                <a:latin typeface="Garamond"/>
              </a:rPr>
              <a:t>М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a</a:t>
            </a:r>
            <a:r>
              <a:rPr b="1" lang="sr-CS" sz="2800" spc="-1" strike="noStrike">
                <a:solidFill>
                  <a:srgbClr val="33cccc"/>
                </a:solidFill>
                <a:latin typeface="Garamond"/>
              </a:rPr>
              <a:t>стикаторне силе и оптерећење зуба носач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ff66"/>
                </a:solidFill>
                <a:latin typeface="Garamond"/>
              </a:rPr>
              <a:t>При одређивању способности на оптерећење треба узети у обзир и величину мастикаторног притиска тј. снагу мастикаторних мишића који оптерећују одређени зуб као и смер којим сила оптерећује зуб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ff66"/>
                </a:solidFill>
                <a:latin typeface="Garamond"/>
              </a:rPr>
              <a:t>Силе које настају деловањем мастикаторних мишића, мишића образа, усана и језика у току мастикације, фонације и мимике шире се у различитим смеровим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trips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160" y="5331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рема смеру деловања те силе могу бит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ксијалне, тангенцијалне, радијалн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(сагиталне и трансверзалне).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етност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сила зависи од вел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 силе и смер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деловања силе на зуб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Вели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ина си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ритисак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акања тј. мастикаторне сил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оје делују на зубе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зависе од стањ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зуба у супротној вилици, првенствено од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ога да ли су зуби антагонисти природн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ли вест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1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ај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 притисак дају природни зуб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нтагонисти, затим фиксне зубне протезе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мобилне зубне протезе (са дентогингивалним, п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са гингивалним преносом притиска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акања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Мастикаторни  притисак природних зуба завис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од њиховог пародонталног стањ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е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обрнуто је пропорционалн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даљености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од места на коме сила делуј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ј.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о је удаљеност 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е зуба ј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мање. При 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нецентри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ном оптере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ењу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ропорционално је мање 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н удаљениј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;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о је место деловања силе бл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е је 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Оптере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ењ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два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на од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ни 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вертикални притисак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не мења се са њиховом удаљен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 и не зависи од распона моста. Са по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њем д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 теле моста укупно 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е зуба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у функцији расте због по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не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 на коју делује притисак мастикације. 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У су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тини носа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и су при ду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ем телу моста ја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е оптере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ени него при кра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ем, због ве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их сила.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Пре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е се у том сл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ју сп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ва укљ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вањем додатних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 тј. 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г броја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cccc"/>
                </a:solidFill>
                <a:latin typeface="Arial"/>
              </a:rPr>
              <a:t>Смер оптере</a:t>
            </a:r>
            <a:r>
              <a:rPr b="1" i="1" lang="sr-Latn-CS" sz="2400" spc="-1" strike="noStrike">
                <a:solidFill>
                  <a:srgbClr val="33cccc"/>
                </a:solidFill>
                <a:latin typeface="Arial"/>
              </a:rPr>
              <a:t>ћ</a:t>
            </a:r>
            <a:r>
              <a:rPr b="1" i="1" lang="en-US" sz="2400" spc="-1" strike="noStrike">
                <a:solidFill>
                  <a:srgbClr val="33cccc"/>
                </a:solidFill>
                <a:latin typeface="Arial"/>
              </a:rPr>
              <a:t>ењ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Потпорни апарат зуба реагује потпуно  друга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иј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на аксијално и трансверзално оптере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ење. Ак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сила делује на зуб </a:t>
            </a: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аксијално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 тј. у смеру узду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н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осе зуба, сва влакна периодонцијума се напре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истовремено и равномерно. Такав на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ин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оптере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ењ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а 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функционално адекватан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 з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периодонцијум. Периодонцијум зато подноси пр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аксијалном оптере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ењу без 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тете далеко ве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силе од оних које настају при нормалној функцији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зубика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Дентални мостови су конструкције које надокнађују један или више изгубљених зуба, а посредством цементираних котви трајно су причвршћене за зубе носаче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Ова дефиниција је механичка и односи се само на начин на који је надокнада причвршћена у устима пацијента. Будући да се појам денталног моста не ограничава само на надокнаде цементом трајно фиксиране у устима, већ обухвата и мостове на скидање, она је и непотпуна.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Битна карактеристика мостова је да оптерећења којима су изложени у устима преносе на кост преко зуба носача и њихових периодонталних лигамената. Ово је идентично физиолошком преношењу оптерећења у природној дентициј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3" descr="Untitled-1"/>
          <p:cNvPicPr/>
          <p:nvPr/>
        </p:nvPicPr>
        <p:blipFill>
          <a:blip r:embed="rId1"/>
          <a:stretch/>
        </p:blipFill>
        <p:spPr>
          <a:xfrm>
            <a:off x="2124000" y="3332160"/>
            <a:ext cx="4392720" cy="3525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78920" y="304560"/>
            <a:ext cx="87361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о м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љењу неких аутора здрав пери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донцијум не м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се преоптеретити аксијално. Зато се сматра да је 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прворазредни задатак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код сваке протетске конструкције 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осигурати да силе које настају при функцији протезе делују прете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но у смеру узду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не осе зуб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овољне се сматрају и силе које се ипак до некле 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д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љавају од узд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е осе зуба али се ј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увек пројектују у границама к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ане алвеоле, п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о и оне имају тенденцију да зуб потискују у алвеолу а не да га из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over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820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Многи аутори сматрају да при аксијалном 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у зуба најбоље долази до изр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ја рефлексна регулација сила притиска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акања путем проприорецептора периодонцијума. 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е сув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великим силама изазива ос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ј бола,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о је сигнал CNSu за смањ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њ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деловања мастикаторне мускулатур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етно дејство хоризонталних и косих сила је директно пропорционално углу који заклапа смер деловања сила са узд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ом осом зуба. Најопасније су силе које делују на зуб у смеру који је нормалан на узд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у осу зуб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Неоспорно је да прибли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но хоризонталне силе 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етно делују на периодонцијум ако се пројектују мимо к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ане алвеоле. Те силе имају тенденцију да ротирају зуб око центра ротације, који се налази прибли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но на граници изм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у средње и апикалне т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е корена. Периодонцијум се при том опте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ује неравномерн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У оклузалној т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и, на страни деловања силе, а у апикалној т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и на страни смера повратне силе настају </a:t>
            </a: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зоне </a:t>
            </a:r>
            <a:r>
              <a:rPr b="1" lang="sr-RS" sz="3200" spc="-1" strike="noStrike">
                <a:solidFill>
                  <a:srgbClr val="33cccc"/>
                </a:solidFill>
                <a:latin typeface="Garamond"/>
              </a:rPr>
              <a:t>истезања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. У осталим деловима периодонцијума настају </a:t>
            </a: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зоне </a:t>
            </a:r>
            <a:r>
              <a:rPr b="1" lang="sr-RS" sz="3200" spc="-1" strike="noStrike">
                <a:solidFill>
                  <a:srgbClr val="33cccc"/>
                </a:solidFill>
                <a:latin typeface="Garamond"/>
              </a:rPr>
              <a:t>притиска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5341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 компримованим областима стагнира циркулација крви, појављују се дегенеративне промене везивног потпорног апарата (периодонтално ткиво буде замењено гранулационим ткивом). На к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аном делу алвеоле настају ресорптивне промене. Периодонтална мембрана се пр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рује левкасто, к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ани алвеоларни лук се сн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ва, зуб се раскл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је и ако се деловање сила настави цео процес брзо напредује до потпуног ун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ења периодонцијума и елиминације зуб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Принцип  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аксијалног оптере</a:t>
            </a:r>
            <a:r>
              <a:rPr b="1" lang="sr-Latn-CS" sz="2800" spc="-1" strike="noStrike">
                <a:solidFill>
                  <a:srgbClr val="33cccc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ења</a:t>
            </a: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 зуба</a:t>
            </a: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 може с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прогласити </a:t>
            </a:r>
            <a:r>
              <a:rPr b="1" lang="sr-Latn-CS" sz="2800" spc="-1" strike="noStrike">
                <a:solidFill>
                  <a:srgbClr val="33cccc"/>
                </a:solidFill>
                <a:latin typeface="Arial"/>
              </a:rPr>
              <a:t>водећим протетичким принципом</a:t>
            </a: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ако се користи дентални пренос притиск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жвакања. Зато треба настојати да се искључ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трансверзалне силе или да се ограничи њихов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дејство на најмању могућу меру. Штетн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дејство трансверзалних сила може се д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одређене мере спречити одговарајући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моделовањем гризних површина моста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моделирати ниже квржице са мањим нагибо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Овај начин је код природног</a:t>
            </a:r>
            <a:r>
              <a:rPr b="1" lang="sr-RS" sz="2800" spc="-1" strike="noStrike">
                <a:solidFill>
                  <a:srgbClr val="ccff66"/>
                </a:solidFill>
                <a:latin typeface="Arial"/>
              </a:rPr>
              <a:t> антагонистичко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зубика знатно ограничен тиме што се оклузал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површине мостова морају моделирати у склад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ccff66"/>
                </a:solidFill>
                <a:latin typeface="Arial"/>
              </a:rPr>
              <a:t>а </a:t>
            </a:r>
            <a:r>
              <a:rPr b="1" lang="sr-Latn-CS" sz="2800" spc="-1" strike="noStrike">
                <a:solidFill>
                  <a:srgbClr val="ccff66"/>
                </a:solidFill>
                <a:latin typeface="Arial"/>
              </a:rPr>
              <a:t>артикулацијом преосталог зубика пације</a:t>
            </a:r>
            <a:r>
              <a:rPr b="1" lang="sr-RS" sz="2800" spc="-1" strike="noStrike">
                <a:solidFill>
                  <a:srgbClr val="ccff66"/>
                </a:solidFill>
                <a:latin typeface="Arial"/>
              </a:rPr>
              <a:t>н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sh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785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ff66"/>
                </a:solidFill>
                <a:latin typeface="Garamond"/>
              </a:rPr>
              <a:t>Много ефикасније се умањује дејство трансверзалних сила ако се чврсто споје зуби који стоје у обе половине зубика тако да њихове замишљене спојнице заклапају површину. Реч је о површинској фиксацији која блокира ефекат трансверзалних сила п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</a:t>
            </a:r>
            <a:r>
              <a:rPr b="1" lang="sr-CS" sz="2800" spc="-1" strike="noStrike">
                <a:solidFill>
                  <a:srgbClr val="ccff66"/>
                </a:solidFill>
                <a:latin typeface="Garamond"/>
              </a:rPr>
              <a:t> се тако постиже условно ефекат удлаг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ff66"/>
                </a:solidFill>
                <a:latin typeface="Garamond"/>
              </a:rPr>
              <a:t>Много су неповољнији односи ако стубни зуби стоје приближно у правој линији. Код такве линеарне фиксације цела конструкција има могућност ротације око заједничке осе која спаја центре ротације појединих зуб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Код конструкције денталних протеза увек додајемо нове гризне површине –стубним зубима додајемо ново оптерећење. Код линеарно фиксираних конструкција ово повећано опт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ећење не компензује се никако и зато индикације за ове конструкције се постављају веома опрезно и за њих се бирају најчвршћи стубни зуб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тетно дејство 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хоризонталних и косих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 сила директно је пропорционално углу који заклапа смер деловања сила са уздужном осом зуба. Према томе најопасније су силе које делују на зуб у смеру који је нормалан на уздужну осу зуб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000" y="549000"/>
            <a:ext cx="8675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cccc"/>
                </a:solidFill>
                <a:latin typeface="Garamond"/>
              </a:rPr>
              <a:t>Биостатички односи</a:t>
            </a:r>
            <a:r>
              <a:rPr b="1" lang="sr-CS" sz="2800" spc="-1" strike="noStrike">
                <a:solidFill>
                  <a:srgbClr val="ccff66"/>
                </a:solidFill>
                <a:latin typeface="Garamond"/>
              </a:rPr>
              <a:t> су још гори  где тело моста прави лук у односу на линију која спаја стубне зубе. Овде се аксијални притисак жвакања који делује на мост мења у штетну силу којој цео систем не може дуго одолевати. При доношењу одлуке за мост одлучујуће је којом конструкцијом се лакше постиже површинска фиксација а тиме и заштита пародонцијума од штетног дејства трансверзалних сила. Значај површинској фиксацији дају многи аутори који сматрају да се једино њоме може постићи код већих протеза поуздана стабилност и заштита зуба носач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 spokes="1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Ко</a:t>
            </a:r>
            <a:r>
              <a:rPr b="1" lang="sr-Latn-CS" sz="3200" spc="-1" strike="noStrike">
                <a:solidFill>
                  <a:srgbClr val="33cccc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33cccc"/>
                </a:solidFill>
                <a:latin typeface="Garamond"/>
              </a:rPr>
              <a:t>тани фундамент-основа мос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База моста м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 бити разматрана у 2 правц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1. локална база-коју 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и целокупни потпорни апарат зуба нос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2. оп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а база-коју 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и целокупни к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ани скелет вилиц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У доњој вилици оп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у базу 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и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 компактни базални лук вилице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 алвеоларни наставак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 алвеоле зуб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5331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 горњој вилици базални лук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 алвеоларни наставак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 алвеоле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 зугомат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и наставак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 фронтални наставак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 палатинални наставак тј. трајекторије преко којих се преноси притисак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акањ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Улога базе мост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је да прихвати и изд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 притисак целог моста; да од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ва и храни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моста преко неуроваскуларног система вилиц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ff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cccc"/>
                </a:solidFill>
                <a:latin typeface="Arial"/>
              </a:rPr>
              <a:t>Механички појам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моста-означава начин на који је зубна надокнада причвршћена за зубе носаче-цементиране фиксне надокнаде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ff99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cccc"/>
                </a:solidFill>
                <a:latin typeface="Arial"/>
              </a:rPr>
              <a:t>Биолошки појам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моста-означава све надокнаде са чисто денталним преносом притиска жвакања, независно од тога да ли су надокнаде цементиране или не. Ту се убрајају и моб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и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лни мостови који би се према механичкој подели зубних протеза могли сврстати у парцијалне протез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over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Отпорност ко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таног фундамента нема издвојено зна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ење, ве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 се увек посматра у склопу носа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а мост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Као позитивни фактори у отпорности базе сматреју с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- добро гра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ђ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ена и густа спонгиоза кости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- изра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ен унутра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њи кортикални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слој алвеоле и равномерно 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ирок периодонтални простор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- </a:t>
            </a:r>
            <a:r>
              <a:rPr b="1" lang="sr-Latn-CS" sz="3200" spc="-1" strike="noStrike">
                <a:solidFill>
                  <a:srgbClr val="cc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Arial"/>
              </a:rPr>
              <a:t>ирока апикална база вилиц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Негативни фактори с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раз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на спонгиоза са раз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ним к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аним гредицам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слабо изр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н унутр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њи кортикални слој алвеоле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су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н или пр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рен пародонтални просто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Разр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ена к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ана гр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 не гарантује довољну отпорност за конструкцију моста. У том смислу мандибула с обзиром на своју компактнију гр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у има ве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у отпорност као база мост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ll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росторно, локалну базу огран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вају линије које спајају зубе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моста и она је у облику троугласте, правоугаоне или полигоналне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Увек је по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ељно да мастикаторне силе падају у оквиру локалне баз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ко прод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так неке силе пада ван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 локалне базе моста, јавља се б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о 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е и извртање зуба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. То се д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ва код мостова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је је тело у луку (фронтални мостови), код крилних мостова (мостова са 1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м) или код мостова код којих се моделира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рока оклузална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а а к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це су латерално постављене те силе падају ван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 баз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sh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Сидра (котве) мос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Сидро је елеменат моста преко кога се мост пр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је за зубе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, примарно или секундарно тј. фиксном или мобилном везо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ао сидра за металне мостове употребљавају се след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конструкције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цела ливена круница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фасетирана круница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керам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а крун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иц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круница на к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делим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а круниц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о су 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примарн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везе-цементирана сидр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Picture 4" descr="C:\Users\Jelena Todic\Downloads\images-7.jpeg"/>
          <p:cNvPicPr/>
          <p:nvPr/>
        </p:nvPicPr>
        <p:blipFill>
          <a:blip r:embed="rId1"/>
          <a:srcRect l="0" t="4302" r="0" b="29630"/>
          <a:stretch/>
        </p:blipFill>
        <p:spPr>
          <a:xfrm>
            <a:off x="4500720" y="3213000"/>
            <a:ext cx="452088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8001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телескоп круница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онус круна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леј или пинлеј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т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ме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о су 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секундарн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везе-код мобилних мосто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Свака врста крунице м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се користити као сидро ако висина функционалне круне зуба и смер бр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них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а осигуравају довољну ретенцију крун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исина бру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ног зуба треба бити најмање 2/3 висине круниц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За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виталне зубе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 долазе у обзир све набројане конструкције, осим крунице на ко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и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. На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невиталним зубима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 не могу се употребљавати делими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не крунице и инлеји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Невитални зуби имају слабу зубну супстанцу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 која мо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е да се ломи у току препарације и не пру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а довољну ретенцију. Из естетских резлога нису погодне за делими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не крунице јер зуб временом потамни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Најпогоднија сидра су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 целе и фасетиране ливене круне као и метало-керами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ке круне у склопу метало-керами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ког моста -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обухватају 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итаву препарирану клини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ку круну зуба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.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 За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виталне зубе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 долазе у обзир </a:t>
            </a:r>
            <a:r>
              <a:rPr b="1" lang="en-US" sz="3000" spc="-1" strike="noStrike">
                <a:solidFill>
                  <a:srgbClr val="ffcc00"/>
                </a:solidFill>
                <a:latin typeface="Garamond"/>
              </a:rPr>
              <a:t>све набројане конструкције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,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 најсигурнија ретенција и </a:t>
            </a:r>
            <a:r>
              <a:rPr b="1" lang="sr-Latn-CS" sz="30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000" spc="-1" strike="noStrike">
                <a:solidFill>
                  <a:srgbClr val="ccff66"/>
                </a:solidFill>
                <a:latin typeface="Garamond"/>
              </a:rPr>
              <a:t>тите зубе од каријеса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Делими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не крун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као сидра могу с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потребљавати само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код мањих мостов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где постоји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резистенција на каријес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. Техник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репарације и постизања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паралелност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лебова са смером уно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ења мост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ар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то код 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г броја сидара је компликован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Делим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а круница је функционално-стат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и 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рофилакт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и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слабија од потпуне крун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. Сидра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се нај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у савременој протетици лију у склоп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моста тј. једноделним ливењем се изр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ју о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материјала од кога се изр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ују и мостови: од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златне, платинско-златне легуре, од легуре н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бази паладијум-сребра или од специјалног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лик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за 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металокерам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круниц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hecke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3160" y="152352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збор сидра и врста материјала зависи 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виталитета нос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естетске индикације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предиспозиције за каријес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ду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не тела мост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врсте оклузиј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Picture 4" descr="http://media5.picsearch.com/is?sghLtmXehRCDBb5RNz_FbnjQJ_vCU0s6bAwrm7hifiU&amp;height=305"/>
          <p:cNvPicPr/>
          <p:nvPr/>
        </p:nvPicPr>
        <p:blipFill>
          <a:blip r:embed="rId1"/>
          <a:srcRect l="0" t="9713" r="0" b="0"/>
          <a:stretch/>
        </p:blipFill>
        <p:spPr>
          <a:xfrm>
            <a:off x="6076800" y="2276640"/>
            <a:ext cx="2959200" cy="4095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83628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fde155"/>
                </a:solidFill>
                <a:latin typeface="Arial"/>
              </a:rPr>
              <a:t>Индикације</a:t>
            </a:r>
            <a:r>
              <a:rPr b="0" lang="sr-Latn-CS" sz="3600" spc="-1" strike="noStrike">
                <a:solidFill>
                  <a:srgbClr val="fde155"/>
                </a:solidFill>
                <a:latin typeface="Arial"/>
              </a:rPr>
              <a:t> за израду </a:t>
            </a:r>
            <a:r>
              <a:rPr b="0" lang="en-US" sz="3600" spc="-1" strike="noStrike">
                <a:solidFill>
                  <a:srgbClr val="fde155"/>
                </a:solidFill>
                <a:latin typeface="Arial"/>
              </a:rPr>
              <a:t>мостова: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de155"/>
                </a:solidFill>
                <a:latin typeface="Arial"/>
              </a:rPr>
              <a:t>*</a:t>
            </a:r>
            <a:r>
              <a:rPr b="0" lang="sr-Latn-CS" sz="3600" spc="-1" strike="noStrike">
                <a:solidFill>
                  <a:srgbClr val="fde155"/>
                </a:solidFill>
                <a:latin typeface="Arial"/>
              </a:rPr>
              <a:t> Естетске индикације,</a:t>
            </a:r>
            <a:br>
              <a:rPr sz="3600"/>
            </a:br>
            <a:r>
              <a:rPr b="0" lang="en-US" sz="3600" spc="-1" strike="noStrike">
                <a:solidFill>
                  <a:srgbClr val="fde155"/>
                </a:solidFill>
                <a:latin typeface="Arial"/>
              </a:rPr>
              <a:t>*</a:t>
            </a:r>
            <a:r>
              <a:rPr b="0" lang="sr-Latn-CS" sz="3600" spc="-1" strike="noStrike">
                <a:solidFill>
                  <a:srgbClr val="fde155"/>
                </a:solidFill>
                <a:latin typeface="Arial"/>
              </a:rPr>
              <a:t> Протетске индикације</a:t>
            </a:r>
            <a:r>
              <a:rPr b="0" lang="en-US" sz="3600" spc="-1" strike="noStrike">
                <a:solidFill>
                  <a:srgbClr val="fde155"/>
                </a:solidFill>
                <a:latin typeface="Arial"/>
              </a:rPr>
              <a:t>,</a:t>
            </a:r>
            <a:br>
              <a:rPr sz="3600"/>
            </a:br>
            <a:r>
              <a:rPr b="0" lang="en-US" sz="3600" spc="-1" strike="noStrike">
                <a:solidFill>
                  <a:srgbClr val="fde155"/>
                </a:solidFill>
                <a:latin typeface="Arial"/>
              </a:rPr>
              <a:t>*</a:t>
            </a:r>
            <a:r>
              <a:rPr b="0" lang="sr-Latn-CS" sz="3600" spc="-1" strike="noStrike">
                <a:solidFill>
                  <a:srgbClr val="fde155"/>
                </a:solidFill>
                <a:latin typeface="Arial"/>
              </a:rPr>
              <a:t> Профилактичке индикације</a:t>
            </a:r>
            <a:r>
              <a:rPr b="0" lang="en-US" sz="3600" spc="-1" strike="noStrike">
                <a:solidFill>
                  <a:srgbClr val="fde155"/>
                </a:solidFill>
                <a:latin typeface="Arial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41767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de155"/>
                </a:solidFill>
                <a:latin typeface="Arial"/>
              </a:rPr>
              <a:t>Естетске</a:t>
            </a:r>
            <a:r>
              <a:rPr b="1" i="1" lang="sr-Latn-CS" sz="2000" spc="-1" strike="noStrike">
                <a:solidFill>
                  <a:srgbClr val="fde155"/>
                </a:solidFill>
                <a:latin typeface="Arial"/>
              </a:rPr>
              <a:t> индикације</a:t>
            </a:r>
            <a:r>
              <a:rPr b="1" i="1" lang="en-US" sz="2000" spc="-1" strike="noStrike">
                <a:solidFill>
                  <a:srgbClr val="fde155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de155"/>
                </a:solidFill>
                <a:latin typeface="Arial"/>
              </a:rPr>
              <a:t>-рестаурација оштећених </a:t>
            </a:r>
            <a:br>
              <a:rPr sz="2000"/>
            </a:br>
            <a:r>
              <a:rPr b="1" lang="sr-Latn-CS" sz="2000" spc="-1" strike="noStrike">
                <a:solidFill>
                  <a:srgbClr val="fde155"/>
                </a:solidFill>
                <a:latin typeface="Arial"/>
              </a:rPr>
              <a:t>површина зуба</a:t>
            </a:r>
            <a:r>
              <a:rPr b="1" lang="en-US" sz="2000" spc="-1" strike="noStrike">
                <a:solidFill>
                  <a:srgbClr val="fde155"/>
                </a:solidFill>
                <a:latin typeface="Arial"/>
              </a:rPr>
              <a:t> (обимна или многострука кариозна оштећења, </a:t>
            </a:r>
            <a:r>
              <a:rPr b="1" lang="sr-Latn-CS" sz="2000" spc="-1" strike="noStrike">
                <a:solidFill>
                  <a:srgbClr val="fde155"/>
                </a:solidFill>
                <a:latin typeface="Arial"/>
              </a:rPr>
              <a:t>отежана или онемогућена ретенција испуна</a:t>
            </a:r>
            <a:r>
              <a:rPr b="1" lang="en-US" sz="2000" spc="-1" strike="noStrike">
                <a:solidFill>
                  <a:srgbClr val="fde155"/>
                </a:solidFill>
                <a:latin typeface="Arial"/>
              </a:rPr>
              <a:t>, недостатак инцизалног угла),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de155"/>
                </a:solidFill>
                <a:latin typeface="Arial"/>
              </a:rPr>
              <a:t>-зуби који су променили</a:t>
            </a:r>
            <a:r>
              <a:rPr b="1" lang="en-US" sz="2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fde155"/>
                </a:solidFill>
                <a:latin typeface="Arial"/>
              </a:rPr>
              <a:t>боју </a:t>
            </a:r>
            <a:r>
              <a:rPr b="1" lang="en-US" sz="2000" spc="-1" strike="noStrike">
                <a:solidFill>
                  <a:srgbClr val="fde155"/>
                </a:solidFill>
                <a:latin typeface="Arial"/>
              </a:rPr>
              <a:t>(девитализација, тетрациклини, флуороза),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de155"/>
                </a:solidFill>
                <a:latin typeface="Arial"/>
              </a:rPr>
              <a:t>-абрадирани зуби,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Picture 3" descr="13"/>
          <p:cNvPicPr/>
          <p:nvPr/>
        </p:nvPicPr>
        <p:blipFill>
          <a:blip r:embed="rId1"/>
          <a:stretch/>
        </p:blipFill>
        <p:spPr>
          <a:xfrm>
            <a:off x="4572000" y="260280"/>
            <a:ext cx="3168720" cy="197640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187" name="Picture 4" descr="14"/>
          <p:cNvPicPr/>
          <p:nvPr/>
        </p:nvPicPr>
        <p:blipFill>
          <a:blip r:embed="rId2"/>
          <a:stretch/>
        </p:blipFill>
        <p:spPr>
          <a:xfrm>
            <a:off x="539640" y="4611600"/>
            <a:ext cx="3168720" cy="205740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188" name="Picture 5" descr="File0004"/>
          <p:cNvPicPr/>
          <p:nvPr/>
        </p:nvPicPr>
        <p:blipFill>
          <a:blip r:embed="rId3"/>
          <a:stretch/>
        </p:blipFill>
        <p:spPr>
          <a:xfrm>
            <a:off x="4572000" y="2421000"/>
            <a:ext cx="3168720" cy="203040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  <p:pic>
        <p:nvPicPr>
          <p:cNvPr id="189" name="Picture 6" descr="1"/>
          <p:cNvPicPr/>
          <p:nvPr/>
        </p:nvPicPr>
        <p:blipFill>
          <a:blip r:embed="rId4"/>
          <a:stretch/>
        </p:blipFill>
        <p:spPr>
          <a:xfrm>
            <a:off x="4572000" y="4657680"/>
            <a:ext cx="3168720" cy="201132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</p:spTree>
  </p:cSld>
  <p:transition spd="slow"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8920" y="0"/>
            <a:ext cx="871380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Garamond"/>
              </a:rPr>
              <a:t>Могућност да се мостом санира безубост постоји у пацијената у којих и безуби алвеоларни гребен или гребенови су обострано ограничени зубима способним да поднесу додатна оптерећењ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3" descr="Untitled-5"/>
          <p:cNvPicPr/>
          <p:nvPr/>
        </p:nvPicPr>
        <p:blipFill>
          <a:blip r:embed="rId1"/>
          <a:stretch/>
        </p:blipFill>
        <p:spPr>
          <a:xfrm>
            <a:off x="304920" y="1828800"/>
            <a:ext cx="2743200" cy="2003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Untitled-8"/>
          <p:cNvPicPr/>
          <p:nvPr/>
        </p:nvPicPr>
        <p:blipFill>
          <a:blip r:embed="rId2"/>
          <a:stretch/>
        </p:blipFill>
        <p:spPr>
          <a:xfrm>
            <a:off x="2286000" y="2771640"/>
            <a:ext cx="2971800" cy="1690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Untitled-6"/>
          <p:cNvPicPr/>
          <p:nvPr/>
        </p:nvPicPr>
        <p:blipFill>
          <a:blip r:embed="rId3"/>
          <a:stretch/>
        </p:blipFill>
        <p:spPr>
          <a:xfrm>
            <a:off x="4572000" y="3276720"/>
            <a:ext cx="2819520" cy="1904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Untitled-7"/>
          <p:cNvPicPr/>
          <p:nvPr/>
        </p:nvPicPr>
        <p:blipFill>
          <a:blip r:embed="rId4"/>
          <a:stretch/>
        </p:blipFill>
        <p:spPr>
          <a:xfrm>
            <a:off x="6172200" y="480060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-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аномалије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положаја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зуба</a:t>
            </a:r>
            <a:br>
              <a:rPr sz="2800"/>
            </a:b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(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ротирани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,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елонгирани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неправилно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постављени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зуби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)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,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1" name="Picture 3" descr="22"/>
          <p:cNvPicPr/>
          <p:nvPr/>
        </p:nvPicPr>
        <p:blipFill>
          <a:blip r:embed="rId1"/>
          <a:stretch/>
        </p:blipFill>
        <p:spPr>
          <a:xfrm>
            <a:off x="1332000" y="1413000"/>
            <a:ext cx="2952720" cy="265752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192" name="Picture 4" descr="17"/>
          <p:cNvPicPr/>
          <p:nvPr/>
        </p:nvPicPr>
        <p:blipFill>
          <a:blip r:embed="rId2"/>
          <a:stretch/>
        </p:blipFill>
        <p:spPr>
          <a:xfrm>
            <a:off x="4572000" y="1771560"/>
            <a:ext cx="3384720" cy="218916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193" name="Picture 5" descr="16"/>
          <p:cNvPicPr/>
          <p:nvPr/>
        </p:nvPicPr>
        <p:blipFill>
          <a:blip r:embed="rId3"/>
          <a:stretch/>
        </p:blipFill>
        <p:spPr>
          <a:xfrm>
            <a:off x="3132000" y="4292640"/>
            <a:ext cx="3003840" cy="227160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</p:spTree>
  </p:cSld>
  <p:transition spd="slow">
    <p:cover dir="r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de155"/>
                </a:solidFill>
                <a:latin typeface="Arial"/>
              </a:rPr>
              <a:t>недовољно</a:t>
            </a:r>
            <a:r>
              <a:rPr b="1" lang="sr-Latn-CS" sz="24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de155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de155"/>
                </a:solidFill>
                <a:latin typeface="Arial"/>
              </a:rPr>
              <a:t>неправилно</a:t>
            </a:r>
            <a:r>
              <a:rPr b="1" lang="sr-Latn-CS" sz="24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de155"/>
                </a:solidFill>
                <a:latin typeface="Arial"/>
              </a:rPr>
              <a:t>развијен</a:t>
            </a:r>
            <a:r>
              <a:rPr b="1" lang="sr-Latn-CS" sz="24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de155"/>
                </a:solidFill>
                <a:latin typeface="Arial"/>
              </a:rPr>
              <a:t>природни</a:t>
            </a:r>
            <a:r>
              <a:rPr b="1" lang="sr-Latn-CS" sz="24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de155"/>
                </a:solidFill>
                <a:latin typeface="Arial"/>
              </a:rPr>
              <a:t>зуб</a:t>
            </a:r>
            <a:r>
              <a:rPr b="1" lang="sr-Latn-CS" sz="24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de155"/>
                </a:solidFill>
                <a:latin typeface="Arial"/>
              </a:rPr>
              <a:t>(</a:t>
            </a:r>
            <a:r>
              <a:rPr b="1" lang="sr-RS" sz="2400" spc="-1" strike="noStrike">
                <a:solidFill>
                  <a:srgbClr val="fde155"/>
                </a:solidFill>
                <a:latin typeface="Arial"/>
              </a:rPr>
              <a:t>рахитис</a:t>
            </a:r>
            <a:r>
              <a:rPr b="1" lang="sr-Latn-CS" sz="2400" spc="-1" strike="noStrike">
                <a:solidFill>
                  <a:srgbClr val="fde155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de155"/>
                </a:solidFill>
                <a:latin typeface="Arial"/>
              </a:rPr>
              <a:t>Хачинсонови</a:t>
            </a:r>
            <a:r>
              <a:rPr b="1" lang="en-US" sz="24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400" spc="-1" strike="noStrike">
                <a:solidFill>
                  <a:srgbClr val="fde155"/>
                </a:solidFill>
                <a:latin typeface="Arial"/>
              </a:rPr>
              <a:t>зуби</a:t>
            </a:r>
            <a:r>
              <a:rPr b="1" lang="en-US" sz="2400" spc="-1" strike="noStrike">
                <a:solidFill>
                  <a:srgbClr val="fde155"/>
                </a:solidFill>
                <a:latin typeface="Arial"/>
              </a:rPr>
              <a:t>, </a:t>
            </a:r>
            <a:r>
              <a:rPr b="1" lang="sr-RS" sz="2400" spc="-1" strike="noStrike">
                <a:solidFill>
                  <a:srgbClr val="fde155"/>
                </a:solidFill>
                <a:latin typeface="Arial"/>
              </a:rPr>
              <a:t>амелогенеза</a:t>
            </a:r>
            <a:r>
              <a:rPr b="1" lang="sr-Latn-CS" sz="2400" spc="-1" strike="noStrike">
                <a:solidFill>
                  <a:srgbClr val="fde155"/>
                </a:solidFill>
                <a:latin typeface="Arial"/>
              </a:rPr>
              <a:t>),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5" name="Picture 3" descr="File0006"/>
          <p:cNvPicPr/>
          <p:nvPr/>
        </p:nvPicPr>
        <p:blipFill>
          <a:blip r:embed="rId1"/>
          <a:stretch/>
        </p:blipFill>
        <p:spPr>
          <a:xfrm>
            <a:off x="4643280" y="3933720"/>
            <a:ext cx="3675240" cy="237492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  <p:pic>
        <p:nvPicPr>
          <p:cNvPr id="196" name="Picture 4" descr="File0005"/>
          <p:cNvPicPr/>
          <p:nvPr/>
        </p:nvPicPr>
        <p:blipFill>
          <a:blip r:embed="rId2"/>
          <a:stretch/>
        </p:blipFill>
        <p:spPr>
          <a:xfrm>
            <a:off x="4643280" y="1268280"/>
            <a:ext cx="3673800" cy="229392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197" name="Picture 5" descr="5"/>
          <p:cNvPicPr/>
          <p:nvPr/>
        </p:nvPicPr>
        <p:blipFill>
          <a:blip r:embed="rId3"/>
          <a:stretch/>
        </p:blipFill>
        <p:spPr>
          <a:xfrm>
            <a:off x="539640" y="3978360"/>
            <a:ext cx="3600720" cy="233028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</p:spTree>
  </p:cSld>
  <p:transition spd="slow">
    <p:split dir="in" orient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21"/>
          <p:cNvPicPr/>
          <p:nvPr/>
        </p:nvPicPr>
        <p:blipFill>
          <a:blip r:embed="rId1"/>
          <a:stretch/>
        </p:blipFill>
        <p:spPr>
          <a:xfrm>
            <a:off x="2484360" y="2548080"/>
            <a:ext cx="4032360" cy="323532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23640" y="1125360"/>
            <a:ext cx="793116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успостављање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контактне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тачке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вештачком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круницом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са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природним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зуб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79280" y="1267920"/>
            <a:ext cx="87854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*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Протетске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индикације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код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фиксних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протеза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:</a:t>
            </a:r>
            <a:br>
              <a:rPr sz="3200"/>
            </a:br>
            <a:br>
              <a:rPr sz="3200"/>
            </a:b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руница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ао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отва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а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мост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,</a:t>
            </a:r>
            <a:br>
              <a:rPr sz="3200"/>
            </a:b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руне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а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подизање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одржавање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висине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агрижај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(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атрициј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снижени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агрижај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)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,</a:t>
            </a:r>
            <a:br>
              <a:rPr sz="3200"/>
            </a:b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руниц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исправљање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трауматс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оклузије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(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скратити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уб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оји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је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у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супраоклузији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87138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e155"/>
                </a:solidFill>
                <a:latin typeface="Garamond"/>
              </a:rPr>
              <a:t>*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Протетске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индикације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код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мобилних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протеза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руне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а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ретенцију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укице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парцијалне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протезе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,</a:t>
            </a:r>
            <a:br>
              <a:rPr sz="3200"/>
            </a:b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-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преобликовање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оклузалне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површине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смештај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оклузалног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наслон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, </a:t>
            </a:r>
            <a:br>
              <a:rPr sz="3200"/>
            </a:b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-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аштит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ретенционог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уб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с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мултипним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испуним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4000" y="177300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e155"/>
                </a:solidFill>
                <a:latin typeface="Arial"/>
              </a:rPr>
              <a:t>*</a:t>
            </a:r>
            <a:r>
              <a:rPr b="1" i="1" lang="sr-Latn-CS" sz="36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600" spc="-1" strike="noStrike">
                <a:solidFill>
                  <a:srgbClr val="fde155"/>
                </a:solidFill>
                <a:latin typeface="Arial"/>
              </a:rPr>
              <a:t>Профилактичке</a:t>
            </a:r>
            <a:r>
              <a:rPr b="1" i="1" lang="en-US" sz="36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600" spc="-1" strike="noStrike">
                <a:solidFill>
                  <a:srgbClr val="fde155"/>
                </a:solidFill>
                <a:latin typeface="Arial"/>
              </a:rPr>
              <a:t>индикације</a:t>
            </a:r>
            <a:r>
              <a:rPr b="1" i="1" lang="en-US" sz="3600" spc="-1" strike="noStrike">
                <a:solidFill>
                  <a:srgbClr val="fde155"/>
                </a:solidFill>
                <a:latin typeface="Arial"/>
              </a:rPr>
              <a:t>:</a:t>
            </a:r>
            <a:br>
              <a:rPr sz="3600"/>
            </a:br>
            <a:br>
              <a:rPr sz="3600"/>
            </a:b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руне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а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аштиту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очување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положаја</a:t>
            </a:r>
            <a:r>
              <a:rPr b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зуба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(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цервикални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аријес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код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de155"/>
                </a:solidFill>
                <a:latin typeface="Arial"/>
              </a:rPr>
              <a:t>деце</a:t>
            </a:r>
            <a:r>
              <a:rPr b="1" lang="en-US" sz="3200" spc="-1" strike="noStrike">
                <a:solidFill>
                  <a:srgbClr val="fde155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 spokes="1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79280" y="1916280"/>
            <a:ext cx="4608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*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Апсолут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недовољно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пуњен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канал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корена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патолошке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промене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на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периапексу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,</a:t>
            </a:r>
            <a:br>
              <a:rPr sz="2800"/>
            </a:b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расклаћени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зуби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(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III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IV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степ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e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на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)</a:t>
            </a:r>
            <a:br>
              <a:rPr sz="2800"/>
            </a:b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зуби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са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акутним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узнапредовалим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обољењем</a:t>
            </a:r>
            <a:r>
              <a:rPr b="1" lang="en-US" sz="28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п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a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род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o</a:t>
            </a:r>
            <a:r>
              <a:rPr b="1" lang="sr-RS" sz="2800" spc="-1" strike="noStrike">
                <a:solidFill>
                  <a:srgbClr val="fde155"/>
                </a:solidFill>
                <a:latin typeface="Arial"/>
              </a:rPr>
              <a:t>нт</a:t>
            </a:r>
            <a:r>
              <a:rPr b="1" lang="sr-Latn-CS" sz="2800" spc="-1" strike="noStrike">
                <a:solidFill>
                  <a:srgbClr val="fde155"/>
                </a:solidFill>
                <a:latin typeface="Arial"/>
              </a:rPr>
              <a:t>a,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4" name="Picture 3" descr="20"/>
          <p:cNvPicPr/>
          <p:nvPr/>
        </p:nvPicPr>
        <p:blipFill>
          <a:blip r:embed="rId1"/>
          <a:stretch/>
        </p:blipFill>
        <p:spPr>
          <a:xfrm>
            <a:off x="5940360" y="1413000"/>
            <a:ext cx="1901880" cy="237780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sp>
        <p:nvSpPr>
          <p:cNvPr id="205" name="Rectangle 4"/>
          <p:cNvSpPr/>
          <p:nvPr/>
        </p:nvSpPr>
        <p:spPr>
          <a:xfrm>
            <a:off x="179280" y="333360"/>
            <a:ext cx="89647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000" spc="-1" strike="noStrike">
                <a:solidFill>
                  <a:srgbClr val="fde155"/>
                </a:solidFill>
                <a:latin typeface="Arial"/>
              </a:rPr>
              <a:t>Контраиндикације</a:t>
            </a:r>
            <a:r>
              <a:rPr b="1" i="1" lang="sr-Latn-CS" sz="36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0" i="1" lang="sr-RS" sz="3200" spc="-1" strike="noStrike">
                <a:solidFill>
                  <a:srgbClr val="fde155"/>
                </a:solidFill>
                <a:latin typeface="Arial"/>
              </a:rPr>
              <a:t>за</a:t>
            </a:r>
            <a:r>
              <a:rPr b="0" i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0" i="1" lang="sr-RS" sz="3200" spc="-1" strike="noStrike">
                <a:solidFill>
                  <a:srgbClr val="fde155"/>
                </a:solidFill>
                <a:latin typeface="Arial"/>
              </a:rPr>
              <a:t>израду</a:t>
            </a:r>
            <a:r>
              <a:rPr b="0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0" i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0" i="1" lang="sr-RS" sz="3200" spc="-1" strike="noStrike">
                <a:solidFill>
                  <a:srgbClr val="fde155"/>
                </a:solidFill>
                <a:latin typeface="Arial"/>
              </a:rPr>
              <a:t>фиксних</a:t>
            </a:r>
            <a:r>
              <a:rPr b="0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0" i="1" lang="sr-RS" sz="3200" spc="-1" strike="noStrike">
                <a:solidFill>
                  <a:srgbClr val="fde155"/>
                </a:solidFill>
                <a:latin typeface="Arial"/>
              </a:rPr>
              <a:t>протетских</a:t>
            </a:r>
            <a:r>
              <a:rPr b="0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0" i="1" lang="sr-RS" sz="3200" spc="-1" strike="noStrike">
                <a:solidFill>
                  <a:srgbClr val="fde155"/>
                </a:solidFill>
                <a:latin typeface="Arial"/>
              </a:rPr>
              <a:t>надокнада</a:t>
            </a:r>
            <a:r>
              <a:rPr b="0" i="1" lang="en-US" sz="3200" spc="-1" strike="noStrike">
                <a:solidFill>
                  <a:srgbClr val="fde155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6" name="Picture 5" descr="15"/>
          <p:cNvPicPr/>
          <p:nvPr/>
        </p:nvPicPr>
        <p:blipFill>
          <a:blip r:embed="rId2"/>
          <a:stretch/>
        </p:blipFill>
        <p:spPr>
          <a:xfrm>
            <a:off x="5651640" y="4344840"/>
            <a:ext cx="2724120" cy="169704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</p:spTree>
  </p:cSld>
  <p:transition spd="slow">
    <p:plus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6868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дубоки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циркуларни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кариес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на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врату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зуба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,</a:t>
            </a:r>
            <a:br>
              <a:rPr sz="3200"/>
            </a:b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висок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степен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атриције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 (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абразије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),</a:t>
            </a:r>
            <a:br>
              <a:rPr sz="3200"/>
            </a:br>
            <a:r>
              <a:rPr b="1" i="1" lang="sr-Latn-CS" sz="32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лоша</a:t>
            </a:r>
            <a:r>
              <a:rPr b="1" i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хигијена</a:t>
            </a:r>
            <a:r>
              <a:rPr b="1" i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уста</a:t>
            </a:r>
            <a:r>
              <a:rPr b="1" i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и</a:t>
            </a:r>
            <a:r>
              <a:rPr b="1" i="1" lang="sr-Latn-CS" sz="32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зуба</a:t>
            </a: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8" name="Picture 3" descr="26"/>
          <p:cNvPicPr/>
          <p:nvPr/>
        </p:nvPicPr>
        <p:blipFill>
          <a:blip r:embed="rId1"/>
          <a:stretch/>
        </p:blipFill>
        <p:spPr>
          <a:xfrm>
            <a:off x="2556000" y="3200400"/>
            <a:ext cx="3887640" cy="231624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</p:spTree>
  </p:cSld>
  <p:transition spd="slow">
    <p:strips dir="l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de155"/>
                </a:solidFill>
                <a:latin typeface="Arial"/>
              </a:rPr>
              <a:t>*</a:t>
            </a:r>
            <a:r>
              <a:rPr b="1" i="1" lang="sr-RS" sz="3200" spc="-1" strike="noStrike">
                <a:solidFill>
                  <a:srgbClr val="fde155"/>
                </a:solidFill>
                <a:latin typeface="Arial"/>
              </a:rPr>
              <a:t>Релативне</a:t>
            </a:r>
            <a:br>
              <a:rPr sz="3200"/>
            </a:br>
            <a:br>
              <a:rPr sz="3200"/>
            </a:b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зуби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у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фази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ендодонтске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терапије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,</a:t>
            </a:r>
            <a:br>
              <a:rPr sz="3000"/>
            </a:b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зуби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у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фази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пародонталне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терапије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,</a:t>
            </a:r>
            <a:br>
              <a:rPr sz="3000"/>
            </a:b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-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животна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доб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(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доња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граница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16-20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година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,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горња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граница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зависи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од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локалног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налаза и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клиничког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статуса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),</a:t>
            </a:r>
            <a:br>
              <a:rPr sz="3000"/>
            </a:b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-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израда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круне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на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здравом</a:t>
            </a:r>
            <a:r>
              <a:rPr b="1" lang="sr-Latn-CS" sz="3000" spc="-1" strike="noStrike">
                <a:solidFill>
                  <a:srgbClr val="fde155"/>
                </a:solidFill>
                <a:latin typeface="Arial"/>
              </a:rPr>
              <a:t> </a:t>
            </a:r>
            <a:r>
              <a:rPr b="1" lang="sr-RS" sz="3000" spc="-1" strike="noStrike">
                <a:solidFill>
                  <a:srgbClr val="fde155"/>
                </a:solidFill>
                <a:latin typeface="Arial"/>
              </a:rPr>
              <a:t>зубу</a:t>
            </a:r>
            <a:r>
              <a:rPr b="1" lang="en-US" sz="3000" spc="-1" strike="noStrike">
                <a:solidFill>
                  <a:srgbClr val="fde155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Garamond"/>
              </a:rPr>
              <a:t>Тело мос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Garamond"/>
              </a:rPr>
              <a:t>Под појмом “тело моста”се подразумева део моста који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надоме</a:t>
            </a:r>
            <a:r>
              <a:rPr b="1" lang="sr-Latn-CS" sz="24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та изгубљене зубе</a:t>
            </a:r>
            <a:r>
              <a:rPr b="1" lang="en-US" sz="2400" spc="-1" strike="noStrike">
                <a:solidFill>
                  <a:srgbClr val="ccff66"/>
                </a:solidFill>
                <a:latin typeface="Garamond"/>
              </a:rPr>
              <a:t> тј.  попуњава постоје</a:t>
            </a:r>
            <a:r>
              <a:rPr b="1" lang="sr-Latn-CS" sz="24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400" spc="-1" strike="noStrike">
                <a:solidFill>
                  <a:srgbClr val="ccff66"/>
                </a:solidFill>
                <a:latin typeface="Garamond"/>
              </a:rPr>
              <a:t>и дефект зубног низ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Тело моста успоставља континуитет прекинутог зубног низа и функцију изгубљених зуба</a:t>
            </a:r>
            <a:r>
              <a:rPr b="1" lang="en-US" sz="2400" spc="-1" strike="noStrike">
                <a:solidFill>
                  <a:srgbClr val="ccff66"/>
                </a:solidFill>
                <a:latin typeface="Garamond"/>
              </a:rPr>
              <a:t> (мастикацију, естетику и фонетику) тј. комплетну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оклузију и артикулациј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Спре</a:t>
            </a:r>
            <a:r>
              <a:rPr b="1" lang="sr-Latn-CS" sz="2400" spc="-1" strike="noStrike">
                <a:solidFill>
                  <a:srgbClr val="ffcc00"/>
                </a:solidFill>
                <a:latin typeface="Garamond"/>
              </a:rPr>
              <a:t>ч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авају</a:t>
            </a:r>
            <a:r>
              <a:rPr b="1" lang="sr-Latn-CS" sz="2400" spc="-1" strike="noStrike">
                <a:solidFill>
                  <a:srgbClr val="ffcc00"/>
                </a:solidFill>
                <a:latin typeface="Garamond"/>
              </a:rPr>
              <a:t>ћ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и инклинацију зуба</a:t>
            </a:r>
            <a:r>
              <a:rPr b="1" lang="en-US" sz="2400" spc="-1" strike="noStrike">
                <a:solidFill>
                  <a:srgbClr val="ccff66"/>
                </a:solidFill>
                <a:latin typeface="Garamond"/>
              </a:rPr>
              <a:t> према празном-безубом простору и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елонгацију</a:t>
            </a:r>
            <a:r>
              <a:rPr b="1" lang="en-US" sz="2400" spc="-1" strike="noStrike">
                <a:solidFill>
                  <a:srgbClr val="ccff66"/>
                </a:solidFill>
                <a:latin typeface="Garamond"/>
              </a:rPr>
              <a:t> антагониста-</a:t>
            </a:r>
            <a:r>
              <a:rPr b="1" lang="en-US" sz="2400" spc="-1" strike="noStrike">
                <a:solidFill>
                  <a:srgbClr val="33cccc"/>
                </a:solidFill>
                <a:latin typeface="Garamond"/>
              </a:rPr>
              <a:t>тело моста делује превентивно</a:t>
            </a:r>
            <a:r>
              <a:rPr b="1" lang="en-US" sz="2400" spc="-1" strike="noStrike">
                <a:solidFill>
                  <a:srgbClr val="ccff66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3" descr="Untitled-13"/>
          <p:cNvPicPr/>
          <p:nvPr/>
        </p:nvPicPr>
        <p:blipFill>
          <a:blip r:embed="rId1"/>
          <a:stretch/>
        </p:blipFill>
        <p:spPr>
          <a:xfrm>
            <a:off x="5292720" y="333360"/>
            <a:ext cx="2951280" cy="2281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Дефинитивну одлуку о изради моста лекар ће донети после прикупљања анамнестичких података, детаљног клиничког прегледа пацијента, анализе његовог радиограма и модела за студије. На основу свега располагаће већим бројем информација у вези са општим и оралним здрављем пацијента, карактеристикама оклузије, стањем потенцијалних носача моста и њиховом способношћу да поднесу додатна оптерећења, стањем оралне хигијене у пацијента итд. Када размотри све прикуп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љ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ене информације и међусобно их повеже, лекар ће утврдити да ли је потребно код одређеног пацијента провести успешну протетску терапију мостом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а поп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ом пресеку тела моста м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мо размат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р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ти след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делове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оклузална повр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ин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средњи део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део који даје механ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у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рстину и висину тела моста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гингивални део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тела мос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Оклузална повр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33cccc"/>
                </a:solidFill>
                <a:latin typeface="Garamond"/>
              </a:rPr>
              <a:t>и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Овај део тела моста је одговоран за ефикасност мастикације, време мастикације а са тим и за 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е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, антагониста и мастикаторне мускулатуре, и ТМЗ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ирина оклузалне повр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ине тела мост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и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рељеф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ј.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висина, облик и поло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ај квр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ица ути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у на ефекат мастикације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,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 оптере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ење зуба носа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а и мастикаторне мускулатур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итање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рине мастикаторне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 је питање које је спорно у литератур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од нас се ј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увек заступа м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љење да је потребно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редуцирати оклузалну повр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ину и то за 1/3 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ирине оклузалн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 изгубљених зуба. Другим 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ма то би зн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ло да је 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ирина оклузалне повр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ине молар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који се надом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ају једнака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рини оклузалне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е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природних премолар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а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рина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премолар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у мосту једнака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рини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мезијалног носа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а моста тј. о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ња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На тај н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 се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смањује притисак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од стране антагониста и оптер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ње зуба но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Мастикација хране са редуцираном 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ом је слабија и за постизање ефекта је потребно в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времен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ако се по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ђ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е од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њенице да је крајни ефекат функције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акања-с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акана хран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Крајни ефекат мастикације зависи од два фактор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   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*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силе мастикациј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, као резултат контракције мастикаторне мускулатуре под сталним утицајем неуромускуларне контрол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    </a:t>
            </a:r>
            <a:r>
              <a:rPr b="1" lang="sr-Latn-CS" sz="2800" spc="-1" strike="noStrike">
                <a:solidFill>
                  <a:srgbClr val="33cccc"/>
                </a:solidFill>
                <a:latin typeface="Garamond"/>
              </a:rPr>
              <a:t>*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времена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мастикациј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-времена деловања сил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Код мостова са 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ироком оклузалном повр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ином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мастикација траје кра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е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али су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носа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и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за време мастикације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ви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е оптере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ени и обрнуто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, код мостова са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редуцираном гризном повр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ином, мастикација траје ду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ж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е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али су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носа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и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у том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моменту мање оптере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ени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Јеке силе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које трају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кратко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-изазивају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реверзибилне промене на пародонцијуму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Дуга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ко дејство сила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, када су оне и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слабије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стимулира ресорпцију кости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, док 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кра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ћ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е дејство сила с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т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имули</a:t>
            </a:r>
            <a:r>
              <a:rPr b="1" lang="sr-Latn-CS" sz="3200" spc="-1" strike="noStrike">
                <a:solidFill>
                  <a:srgbClr val="ffcc00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е апозицију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к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zoom dir="in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09120" y="609480"/>
            <a:ext cx="8534520" cy="54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оставља се питање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та је боље применит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ве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е оптере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ење за кра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е време или обрнуто-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мање оптере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ење за ду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ж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е време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 број аутора мисли да редуциран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повр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на треба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се ради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ти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 само ако број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ланова тела моста је ве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ћ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и од 2, када ј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отпорност </a:t>
            </a:r>
            <a:r>
              <a:rPr b="1" lang="sr-Latn-CS" sz="28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ланова смањена (код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фасетирања) или ако тело моста има доваљн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Garamond"/>
              </a:rPr>
              <a:t>висин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!cid_002f01c4f295$18a175a0$0100007f@niko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Саставни елементи мост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1.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зуби нос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2.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сидра-котве-везе моста (примарне и секундарн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3.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ело моста-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ланови мос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4.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к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ани фундамен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Мостној конструкциј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припада сидро и тел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моста. Носа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ч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и и ко</a:t>
            </a:r>
            <a:r>
              <a:rPr b="1" lang="sr-Latn-CS" sz="3200" spc="-1" strike="noStrike">
                <a:solidFill>
                  <a:srgbClr val="ccff66"/>
                </a:solidFill>
                <a:latin typeface="Garamond"/>
              </a:rPr>
              <a:t>ш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та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фундамент сусаставн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делови организм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Untitled-2"/>
          <p:cNvPicPr/>
          <p:nvPr/>
        </p:nvPicPr>
        <p:blipFill>
          <a:blip r:embed="rId1"/>
          <a:stretch/>
        </p:blipFill>
        <p:spPr>
          <a:xfrm>
            <a:off x="5886360" y="2660760"/>
            <a:ext cx="3257640" cy="41972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893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Зуби носа</a:t>
            </a:r>
            <a:r>
              <a:rPr b="1" lang="sr-Latn-CS" sz="3200" spc="-1" strike="noStrike">
                <a:solidFill>
                  <a:srgbClr val="33cccc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и-стубни зуб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Зуб или корен на коме је мост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при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вр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шћ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е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-стање зуба носа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а, број, распоре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Носа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и моста преко сидра примај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притисак 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жвакања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 са тела моста и преко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свог потпорног апарата (периодонцијума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преносе 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га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на ко</a:t>
            </a:r>
            <a:r>
              <a:rPr b="1" lang="sr-Latn-CS" sz="2400" spc="-1" strike="noStrike">
                <a:solidFill>
                  <a:srgbClr val="ccff66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тани фундамен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http://media2.picsearch.com/is?uNCnu3fiscyEBlL3wUsVOggp3SPcm7ostqiI-uYcG80&amp;height=320"/>
          <p:cNvPicPr/>
          <p:nvPr/>
        </p:nvPicPr>
        <p:blipFill>
          <a:blip r:embed="rId1"/>
          <a:srcRect l="0" t="0" r="0" b="59596"/>
          <a:stretch/>
        </p:blipFill>
        <p:spPr>
          <a:xfrm>
            <a:off x="5796000" y="1268280"/>
            <a:ext cx="3233880" cy="1729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http://media2.picsearch.com/is?uNCnu3fiscyEBlL3wUsVOggp3SPcm7ostqiI-uYcG80&amp;height=320"/>
          <p:cNvPicPr/>
          <p:nvPr/>
        </p:nvPicPr>
        <p:blipFill>
          <a:blip r:embed="rId2"/>
          <a:srcRect l="0" t="53691" r="0" b="7222"/>
          <a:stretch/>
        </p:blipFill>
        <p:spPr>
          <a:xfrm>
            <a:off x="5796000" y="4365720"/>
            <a:ext cx="3233880" cy="1747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http://media4.picsearch.com/is?STKw39d5fY4z6GW5hxMB58JrtzDYLfLcqobCWcBw1Cs&amp;height=341"/>
          <p:cNvPicPr/>
          <p:nvPr/>
        </p:nvPicPr>
        <p:blipFill>
          <a:blip r:embed="rId3"/>
          <a:srcRect l="0" t="0" r="0" b="41231"/>
          <a:stretch/>
        </p:blipFill>
        <p:spPr>
          <a:xfrm>
            <a:off x="1122480" y="4184640"/>
            <a:ext cx="3378240" cy="2603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8991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400" spc="-1" strike="noStrike">
                <a:solidFill>
                  <a:srgbClr val="ccff66"/>
                </a:solidFill>
                <a:latin typeface="Arial"/>
              </a:rPr>
              <a:t>Носачи моста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 су зуби на које се цементирају котве или ретинери моста. Они носе целу конструкцију и, поред сопствених, подносе и оптерећења биолошки намењена изгубљеним зубима. Зато зуби који се желе употребити као носачи моста морају бити у стању да поднесу додатна оптерећења. Најповољније је када су зуби носачи витални. Међутим, и депулпиран зуб се може употребити као носач моста. Треба да је ендодонтски ваљано саниран и да је без клиничких и рендгенографских знакова периапикалног процеса. Пре укључивања у мост депулпиран зуб треба механички ојачати надоградњом са кочићем у каналу корен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Untitled-4"/>
          <p:cNvPicPr/>
          <p:nvPr/>
        </p:nvPicPr>
        <p:blipFill>
          <a:blip r:embed="rId1"/>
          <a:stretch/>
        </p:blipFill>
        <p:spPr>
          <a:xfrm>
            <a:off x="4788000" y="4392720"/>
            <a:ext cx="3962160" cy="2465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Jelena Todic\Downloads\images-8(2).jpeg"/>
          <p:cNvPicPr/>
          <p:nvPr/>
        </p:nvPicPr>
        <p:blipFill>
          <a:blip r:embed="rId2"/>
          <a:stretch/>
        </p:blipFill>
        <p:spPr>
          <a:xfrm>
            <a:off x="250920" y="4486320"/>
            <a:ext cx="4222800" cy="2278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01:06:56Z</dcterms:created>
  <dc:creator>Zorica</dc:creator>
  <dc:description/>
  <dc:language>en-US</dc:language>
  <cp:lastModifiedBy>Office2010</cp:lastModifiedBy>
  <dcterms:modified xsi:type="dcterms:W3CDTF">2017-07-16T15:37:10Z</dcterms:modified>
  <cp:revision>31</cp:revision>
  <dc:subject/>
  <dc:title>Slide 1</dc:title>
</cp:coreProperties>
</file>